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9DE-B8D2-4864-916B-CE4941B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55D-8E23-42AC-B3EC-A967B95D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917-F00E-4EF3-9A09-442EA7FC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BD3-1ED6-4BF5-BA1D-096A44EA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156-20B8-483E-B20C-E013E9F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5FB-A6AA-4453-8BED-41001A69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208-7405-4947-AFE6-DE790A41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023-986B-477F-BCA0-2EB64BA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E04-E63F-4A6D-9528-970C7D3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EBD-297C-4416-A4A4-443B1BD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064-CBAA-4693-97F8-790C0E23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091-D220-4661-AA37-A20F663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3F4-F10B-48D5-91A6-E8626185700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15200" cy="190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21520" y="4495680"/>
            <a:ext cx="1028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0:51:17Z</dcterms:created>
  <dc:creator>atk</dc:creator>
  <dc:description/>
  <dc:language>en-US</dc:language>
  <cp:lastModifiedBy>Kurssi</cp:lastModifiedBy>
  <dcterms:modified xsi:type="dcterms:W3CDTF">2003-02-17T11:21:26Z</dcterms:modified>
  <cp:revision>6</cp:revision>
  <dc:subject/>
  <dc:title>Vauhdin hurmaa</dc:title>
</cp:coreProperties>
</file>